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592D-36D7-412B-A13D-22AD16AE2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25DE-4A36-4536-9F0E-3C57BFDD7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69A5-E8AD-4DB3-80FE-AD6A81764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C16B-0D59-49D7-B6CD-DE0C44995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FF1C-7F66-416F-BBF3-2396A6961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A4C7-6F39-4C32-8979-735A4BE51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A679-C245-4FB1-B844-47E7B95F7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3AAD-BA21-4A5E-B547-470E83C65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2833-D224-4534-BAE5-AE563E1B9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D981-E30B-4D4E-8432-AAE197D5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A5E6-297B-492A-AA21-C51BB175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C68E-5415-439E-B661-65EC0E67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A1C83-B543-4148-9783-5E437B696F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arcticboy.arcticboy.com/view2.php?q=Picture%20Of%20Russian%20Money&amp;url=http://media.nowpublic.net/images//69/8/69841b4a33f9c63401e207c08990cdb4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10747440" cy="6257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Snap ITC"/>
              </a:rPr>
              <a:t>Economy of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Snap ITC"/>
              </a:rPr>
              <a:t>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Bradley Hand ITC"/>
              </a:rPr>
              <a:t>By: Natalie Lunny, James O’Leary, Maura McDona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urlz MT"/>
              </a:rPr>
              <a:t>What's Good about the ec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Font typeface="Showcard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Showcard Gothic"/>
              </a:rPr>
              <a:t>Large amounts of coal, oil and g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Font typeface="Showcard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Showcard Gothic"/>
              </a:rPr>
              <a:t>Minerals like nickel, tin, and g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Font typeface="Showcard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Showcard Gothic"/>
              </a:rPr>
              <a:t>A large fishing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Font typeface="Showcard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Showcard Gothic"/>
              </a:rPr>
              <a:t>Serbia provides wood from for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Font typeface="Showcard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Showcard Gothic"/>
              </a:rPr>
              <a:t>A lot of manufacturing in western Rus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Font typeface="Showcard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Showcard Gothic"/>
              </a:rPr>
              <a:t>Southwestern Russia produces gr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Font typeface="Showcard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Showcard Gothic"/>
              </a:rPr>
              <a:t>Moscow has a large transportation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frowns"/>
          <p:cNvPicPr/>
          <p:nvPr/>
        </p:nvPicPr>
        <p:blipFill>
          <a:blip r:embed="rId1"/>
          <a:stretch/>
        </p:blipFill>
        <p:spPr>
          <a:xfrm>
            <a:off x="0" y="0"/>
            <a:ext cx="9144000" cy="67816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Curlz MT"/>
              </a:rPr>
              <a:t>What's bad about the ec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hiller"/>
              </a:rPr>
              <a:t>Communism, so a command econ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hiller"/>
              </a:rPr>
              <a:t>They can become unempl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hiller"/>
              </a:rPr>
              <a:t>People wouldn’t make goods if there was no pro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hiller"/>
              </a:rPr>
              <a:t>The high prices make it hard to buy food and 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hiller"/>
              </a:rPr>
              <a:t>Pollution from factories hurts health of Russ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hiller"/>
              </a:rPr>
              <a:t>Factories pour poisons into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hiller"/>
              </a:rPr>
              <a:t>They had a heavy industry which caused pol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686800" cy="65530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Lucida Handwriting"/>
              </a:rPr>
              <a:t>Solu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communism failed they changed to a market economy now people can pick their own car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can start their own busin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owners can lower prices for food and cl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future factories can make more g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8839080" cy="63975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cript MT Bold"/>
              </a:rPr>
              <a:t>Farming</a:t>
            </a:r>
            <a:r>
              <a:rPr b="0" lang="en-US" sz="4400" spc="-1" strike="noStrike">
                <a:solidFill>
                  <a:srgbClr val="dddddd"/>
                </a:solidFill>
                <a:latin typeface="Script MT Bold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Snap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Snap ITC"/>
              </a:rPr>
              <a:t>Southwestern Russia grows grains like barley and o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Snap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Snap ITC"/>
              </a:rPr>
              <a:t>They have dairy cows and ca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Snap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Snap ITC"/>
              </a:rPr>
              <a:t>They also grow wh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Snap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Snap ITC"/>
              </a:rPr>
              <a:t>Most of the farming is commer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Snap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Snap ITC"/>
              </a:rPr>
              <a:t>There is also potatoes, corn, sugar beets, sunflower seeds, and mi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991720" cy="67057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99"/>
                </a:solidFill>
                <a:latin typeface="Snap ITC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urlz MT"/>
              </a:rPr>
              <a:t>There is bauxite in western Rus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urlz MT"/>
              </a:rPr>
              <a:t>There is coal in eastern Rus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urlz MT"/>
              </a:rPr>
              <a:t>Copper is near the Yekaterinburg and Chelyabins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urlz MT"/>
              </a:rPr>
              <a:t>Fishing near the sea of Jap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urlz MT"/>
              </a:rPr>
              <a:t>Go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urlz MT"/>
              </a:rPr>
              <a:t>Iron ore is found in western Rus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urlz MT"/>
              </a:rPr>
              <a:t>L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urlz MT"/>
              </a:rPr>
              <a:t>Natural gas is also found in western Rus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urlz MT"/>
              </a:rPr>
              <a:t>Nick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urlz MT"/>
              </a:rPr>
              <a:t>Petroleum is found in western Rus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urlz MT"/>
              </a:rPr>
              <a:t>Tin is found in eastern Rus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urlz MT"/>
              </a:rPr>
              <a:t>Zinc is found near the sea of 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8454960" cy="67039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Gigi"/>
              </a:rPr>
              <a:t> </a:t>
            </a:r>
            <a:r>
              <a:rPr b="0" lang="en-US" sz="4400" spc="-1" strike="noStrike">
                <a:solidFill>
                  <a:srgbClr val="00ff00"/>
                </a:solidFill>
                <a:latin typeface="Gigi"/>
              </a:rPr>
              <a:t>Manufactu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99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Bauhaus 93"/>
              </a:rPr>
              <a:t>Manufacturing centers are in western Rus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99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Bauhaus 93"/>
              </a:rPr>
              <a:t>Many of the early factories were a heavy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99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Bauhaus 93"/>
              </a:rPr>
              <a:t>The factories now changed to light indust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99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Bauhaus 93"/>
              </a:rPr>
              <a:t>Recently they made clothing, shoes, and furni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99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Bauhaus 93"/>
              </a:rPr>
              <a:t>Now they make consumer g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50000">
              <a:srgbClr val="ff0000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664200"/>
            <a:ext cx="8229600" cy="30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99ff"/>
              </a:solidFill>
              <a:latin typeface="com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2590920"/>
            <a:ext cx="6553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99ff"/>
                </a:solidFill>
                <a:latin typeface="comic"/>
              </a:rPr>
              <a:t>THE</a:t>
            </a:r>
            <a:br>
              <a:rPr sz="8800"/>
            </a:br>
            <a:r>
              <a:rPr b="0" lang="en-US" sz="8800" spc="-1" strike="noStrike">
                <a:solidFill>
                  <a:srgbClr val="0099ff"/>
                </a:solidFill>
                <a:latin typeface="comic"/>
              </a:rPr>
              <a:t>EN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4:53:14Z</dcterms:created>
  <dc:creator> </dc:creator>
  <dc:description/>
  <dc:language>en-US</dc:language>
  <cp:lastModifiedBy> </cp:lastModifiedBy>
  <dcterms:modified xsi:type="dcterms:W3CDTF">2010-12-20T15:22:02Z</dcterms:modified>
  <cp:revision>4</cp:revision>
  <dc:subject/>
  <dc:title>Economy of Russia</dc:title>
</cp:coreProperties>
</file>